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976F-99B8-466E-9BDC-8380FC3ABE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F83F-EE4A-424A-BA00-BDDF1D2E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2728-BA0A-4377-9EB2-A4392829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6DE-F144-4960-8AA1-94F7CA2D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232A-6F1A-4D58-8C95-B8F4A62B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F8E0-D8E1-47CF-9E97-FEF7D0AE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0E4A-0517-4928-9E7A-EBF03828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DB2-F0C2-4C1E-9DBD-E9A5DE4D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1A3-AB3B-4134-9C9A-928B8853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5340-81D4-4388-B029-191BD331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C75-80FD-4000-B337-EB17A1FD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A7A9-9CF2-44C8-860F-61C29C7D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631A-C2E0-4804-B523-80BAABC5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8A3B-6899-4023-BA33-5B576CFF9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54000" y="1127160"/>
            <a:ext cx="9067320" cy="4345560"/>
            <a:chOff x="54000" y="1127160"/>
            <a:chExt cx="9067320" cy="4345560"/>
          </a:xfrm>
        </p:grpSpPr>
        <p:sp>
          <p:nvSpPr>
            <p:cNvPr id="49" name="WordArt 5"/>
            <p:cNvSpPr txBox="1"/>
            <p:nvPr/>
          </p:nvSpPr>
          <p:spPr>
            <a:xfrm>
              <a:off x="54000" y="1127160"/>
              <a:ext cx="9067320" cy="203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WordArt 6"/>
            <p:cNvSpPr txBox="1"/>
            <p:nvPr/>
          </p:nvSpPr>
          <p:spPr>
            <a:xfrm>
              <a:off x="-9013320" y="1247760"/>
              <a:ext cx="9067320" cy="211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2"/>
          <p:cNvGrpSpPr/>
          <p:nvPr/>
        </p:nvGrpSpPr>
        <p:grpSpPr>
          <a:xfrm>
            <a:off x="3492360" y="765000"/>
            <a:ext cx="5400720" cy="5400720"/>
            <a:chOff x="3492360" y="765000"/>
            <a:chExt cx="5400720" cy="5400720"/>
          </a:xfrm>
        </p:grpSpPr>
        <p:pic>
          <p:nvPicPr>
            <p:cNvPr id="53" name="Picture 10" descr="t reflect copy"/>
            <p:cNvPicPr/>
            <p:nvPr/>
          </p:nvPicPr>
          <p:blipFill>
            <a:blip r:embed="rId1"/>
            <a:stretch/>
          </p:blipFill>
          <p:spPr>
            <a:xfrm>
              <a:off x="3492360" y="765000"/>
              <a:ext cx="540072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11"/>
            <p:cNvSpPr/>
            <p:nvPr/>
          </p:nvSpPr>
          <p:spPr>
            <a:xfrm>
              <a:off x="7812000" y="4365720"/>
              <a:ext cx="720720" cy="1439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4643280" y="227664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643280" y="3068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 reflect copy"/>
          <p:cNvPicPr/>
          <p:nvPr/>
        </p:nvPicPr>
        <p:blipFill>
          <a:blip r:embed="rId1"/>
          <a:stretch/>
        </p:blipFill>
        <p:spPr>
          <a:xfrm>
            <a:off x="3492360" y="76500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812000" y="4365720"/>
            <a:ext cx="720720" cy="143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21164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637236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211640" y="292428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6383160" y="2952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4206960" y="3657600"/>
            <a:ext cx="2182680" cy="709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745320" y="436716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7453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5680080" y="437832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56689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4937040" y="4367160"/>
            <a:ext cx="731880" cy="1420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2" name="Line 8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5" name="Line 4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5411880" y="4238640"/>
            <a:ext cx="1441440" cy="1797120"/>
            <a:chOff x="5411880" y="4238640"/>
            <a:chExt cx="1441440" cy="1797120"/>
          </a:xfrm>
        </p:grpSpPr>
        <p:sp>
          <p:nvSpPr>
            <p:cNvPr id="77" name="Rectangle 5"/>
            <p:cNvSpPr/>
            <p:nvPr/>
          </p:nvSpPr>
          <p:spPr>
            <a:xfrm>
              <a:off x="5411880" y="4238640"/>
              <a:ext cx="353880" cy="1797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5765760" y="5668920"/>
              <a:ext cx="1087560" cy="36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5776920" y="4970520"/>
            <a:ext cx="709560" cy="3333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5765760" y="4238640"/>
            <a:ext cx="1076400" cy="365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5087880" y="423864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4711680" y="422748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3259080" y="6022800"/>
            <a:ext cx="176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5067360" y="6022800"/>
            <a:ext cx="176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5754600" y="2817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5754600" y="35719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72183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64659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u reflect copy"/>
          <p:cNvPicPr/>
          <p:nvPr/>
        </p:nvPicPr>
        <p:blipFill>
          <a:blip r:embed="rId1"/>
          <a:stretch/>
        </p:blipFill>
        <p:spPr>
          <a:xfrm>
            <a:off x="3119400" y="1557360"/>
            <a:ext cx="5400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u reflect copy"/>
          <p:cNvPicPr/>
          <p:nvPr/>
        </p:nvPicPr>
        <p:blipFill>
          <a:blip r:embed="rId1"/>
          <a:stretch/>
        </p:blipFill>
        <p:spPr>
          <a:xfrm>
            <a:off x="3244680" y="2143080"/>
            <a:ext cx="5400720" cy="432288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748656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713268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702480" y="2270160"/>
            <a:ext cx="396720" cy="1828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3519360" y="338940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4606920" y="230364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5338800" y="4852800"/>
            <a:ext cx="635040" cy="634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6048360" y="4122720"/>
            <a:ext cx="635040" cy="635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4894200" y="429264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5637240" y="2259000"/>
            <a:ext cx="1076400" cy="1839960"/>
            <a:chOff x="5637240" y="2259000"/>
            <a:chExt cx="1076400" cy="1839960"/>
          </a:xfrm>
        </p:grpSpPr>
        <p:sp>
          <p:nvSpPr>
            <p:cNvPr id="102" name="Rectangle 13"/>
            <p:cNvSpPr/>
            <p:nvPr/>
          </p:nvSpPr>
          <p:spPr>
            <a:xfrm>
              <a:off x="5637240" y="2259000"/>
              <a:ext cx="365040" cy="183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5896080" y="3722760"/>
              <a:ext cx="817560" cy="376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2"/>
          <p:cNvSpPr/>
          <p:nvPr/>
        </p:nvSpPr>
        <p:spPr>
          <a:xfrm flipV="1">
            <a:off x="5475240" y="371160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transformations - reflec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1754280" y="17136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754280" y="184932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376280" y="147312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376280" y="181764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1376280" y="2119320"/>
            <a:ext cx="324000" cy="1322280"/>
          </a:xfrm>
          <a:custGeom>
            <a:avLst/>
            <a:gdLst/>
            <a:ahLst/>
            <a:rect l="l" t="t" r="r" b="b"/>
            <a:pathLst>
              <a:path w="204" h="833">
                <a:moveTo>
                  <a:pt x="7" y="0"/>
                </a:moveTo>
                <a:cubicBezTo>
                  <a:pt x="73" y="0"/>
                  <a:pt x="138" y="0"/>
                  <a:pt x="204" y="0"/>
                </a:cubicBezTo>
                <a:cubicBezTo>
                  <a:pt x="204" y="278"/>
                  <a:pt x="204" y="555"/>
                  <a:pt x="204" y="833"/>
                </a:cubicBezTo>
                <a:lnTo>
                  <a:pt x="0" y="210"/>
                </a:lnTo>
                <a:lnTo>
                  <a:pt x="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68120" y="1303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9:20Z</dcterms:created>
  <dc:creator/>
  <dc:description/>
  <dc:language>en-US</dc:language>
  <cp:lastModifiedBy>RomaK</cp:lastModifiedBy>
  <dcterms:modified xsi:type="dcterms:W3CDTF">2015-09-04T09:19:58Z</dcterms:modified>
  <cp:revision>8</cp:revision>
  <dc:subject/>
  <dc:title>Geometry reflections</dc:title>
</cp:coreProperties>
</file>